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37A-B71F-4090-8340-96F59A71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982-3CAF-4171-9519-EA9B3042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0AE-8C6A-49D3-9670-78F1059A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6D8-5DC7-4C53-BC58-864D1757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E1A-460C-46FD-907F-115F980C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774-3152-460E-A9BF-24EDB649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62D-05AB-4B78-B4DC-1BEEE8D7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7F1-E3FF-466A-83B2-DD253E03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695-AADF-4FB2-8F8E-878A415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D35-A1DB-4C75-8108-779D4DD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FC8-255B-42EB-BF20-756BD2D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D88-ED29-4DB6-A425-D29EA69F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1A28-D5AC-4FD6-ACDE-B00B55268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5:19:28Z</dcterms:created>
  <dc:creator>Grupo Editorial</dc:creator>
  <dc:description/>
  <dc:language>en-US</dc:language>
  <cp:lastModifiedBy>Grupo Editorial</cp:lastModifiedBy>
  <dcterms:modified xsi:type="dcterms:W3CDTF">2001-09-27T15:25:07Z</dcterms:modified>
  <cp:revision>1</cp:revision>
  <dc:subject/>
  <dc:title>Sin título de diapositiva</dc:title>
</cp:coreProperties>
</file>